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11F0-4A93-4696-9744-9E865ACE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CE65-4A97-4278-9796-60443AD3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D1A-C108-421F-A138-083FB390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8B1A-DACF-4122-975D-0F9E04C2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5604-AD4F-41FE-BE83-2D8B57F87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50F6-E651-4052-A2BF-D9C7BF49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62D4-6FED-44DF-A7D9-46F66C4E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226D-787F-4065-9600-F19A4767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6FC1-E329-4B76-B0C6-3395A14C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F80A-7701-4F48-8426-E35737EFD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AB15-EBFC-4E2D-972B-37230513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30D-6374-4645-9542-D5161925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FE80-8D7E-467F-977E-6CF51158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76C1-3A9D-4A5C-8EDA-741416A2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0577-CD9E-4080-96D1-9AB51159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97F3-B854-4359-A7E9-8AD7A1BEB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86C9-301F-41AD-BE46-E5479AF8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4B7-2334-42DD-AED6-685E1F28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F5C-3CBC-4682-8276-5777C147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0656-D658-4E44-999D-35A14DF6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822-F694-451C-9383-7D3516C2F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2EE-A750-4BC3-938F-F02E4BAE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F2F6-CB88-4690-A6D1-FAB7D303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02B3-56F7-4716-A750-F573C1C7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61A9-54D7-4B2A-A471-CDAB7008BD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565A-C1A8-4EAD-BD73-76856CD967B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"/>
          <p:cNvSpPr/>
          <p:nvPr/>
        </p:nvSpPr>
        <p:spPr>
          <a:xfrm>
            <a:off x="1692360" y="595008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8000" y="2117880"/>
            <a:ext cx="5328000" cy="30384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10800" bIns="10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Black"/>
              </a:rPr>
              <a:t>О проводимых работах национальным органом по аккредитации Кыргызстана в области неразрушающего контроля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1692360" y="5175360"/>
            <a:ext cx="6134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укулова  А.Д., Астана, октябрь 2015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179280" y="530712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0" y="6093000"/>
            <a:ext cx="9144000" cy="14256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http://internet.ge/v2/news_images/201005205700.png"/>
          <p:cNvPicPr/>
          <p:nvPr/>
        </p:nvPicPr>
        <p:blipFill>
          <a:blip r:embed="rId1"/>
          <a:stretch/>
        </p:blipFill>
        <p:spPr>
          <a:xfrm>
            <a:off x="5972040" y="174600"/>
            <a:ext cx="28069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4000" y="1413000"/>
          <a:ext cx="8496000" cy="504180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504180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ебование к Органу аккреди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СО/МЭК 17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К НК совместно с другими подкомитетами ТК Лаб разработаны и приняты  более  30 политик и процедур, </a:t>
                      </a: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орые  предусматривают подходы по аккредитации  лабораторий  неразрушающего контроля и органов контроля по МС ИСО/МЭК 17025, ИСО/МЭК 17020 и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тоянно актуализируются  с учетом вновь введенных внешних международных и региональных требований), включая 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ство по применению международного стандарта МС ИСО/МЭК 17025 для лаборатор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разрушающего контроля (изд. 3 от 01.08.2015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уководство по применению международного стандарта МС ИСО/МЭК 17025 для лабораторий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ко-механических испытаний  совместно с ПК Ф/М ТК Лаб (изд. 3 от 01.08.2015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дварительная оценка Лаборатории (изд.  1 от 01.07.2014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дставление Лабораторией заявки на аккредитацию (изд.  12 от 05.09.2014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кспертиза документов по аккредитации  Лаборатории (изд.  4 от 01.02.2013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ценка Лаборатории на месте (изд.  12 от 05.09.2014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вторная аккредитация Лабораторий и инспекционный контроль за их деятельностью (изд.  8 от 01.05.2014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4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1413000"/>
          <a:ext cx="8496000" cy="5041800"/>
        </p:xfrm>
        <a:graphic>
          <a:graphicData uri="http://schemas.openxmlformats.org/drawingml/2006/table">
            <a:tbl>
              <a:tblPr/>
              <a:tblGrid>
                <a:gridCol w="1871640"/>
                <a:gridCol w="6624360"/>
              </a:tblGrid>
              <a:tr h="504180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ебование к Органу аккреди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СО/МЭК 170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едставление органами контроля заявки на аккредитацию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д.  5 от 05.09.2014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Экспертиза документов по аккредитации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ов контроля (изд.  1 от 01.02.2013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Оценка на месте Органа контрол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д.  2 от 20.04.2014г.);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вторная аккредитация Органа контроля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инспекционный контроль за его деятельность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д.  2 от 01.05.2014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инятие решения об аккредитации ОО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изд. 11 от 25.04.2013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родление аттестата аккредитации (изд. 11 от 25.04.2013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литика по прослеживаемости результат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й (изд. 7 от  01.02.2014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литика по применению проверочных мероприятий в процессе аккредитации (изд. 4 от  01.06.2014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литика по переходу от применения КМС ГОСТ ИСО/МЭК 17020:2010 к ГОСТ ISO/IEC 17020-2013 и ILAC P15:06/2014  (изд. 1 от 01.05.2015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312840" y="1023840"/>
          <a:ext cx="8496360" cy="5794560"/>
        </p:xfrm>
        <a:graphic>
          <a:graphicData uri="http://schemas.openxmlformats.org/drawingml/2006/table">
            <a:tbl>
              <a:tblPr/>
              <a:tblGrid>
                <a:gridCol w="1224000"/>
                <a:gridCol w="7272360"/>
              </a:tblGrid>
              <a:tr h="44028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дготовка специалистов ООС по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2360">
                <a:tc row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учение  и сертифи-кация пер-сонала по методам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рабочем месте; внешнее обучение на базе: ООО «Трансвагонсервис» , г. Днепропетровск, ОАО «Запсибгазпром» Омский экзаменационный Центр Отраслевого института «Омскгазтехнология», НОАП НК НИИХИММАШ,  г. Москва  (на  базе института или выездом  специалиста института с проведением обучения на базе лабораторий КР,  Учебный центр РЦ «Стройсертификация» Госстроя КР на базе Российско-Кыргызского Славянского университета (НК методом пластической деформации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481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ОАП НК «НИИХИММАШ», г. Москва (Единая система оценки соответствия в области промышленной, экологической безопасности, безопасности в энергетике и строительстве), аккредитован  согласно ИСО/МЭК 17024 по ВИК, рентгенографически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Ультразвуково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Центр сертификации при Украинском обществе НК и технической диагностики, аккредитован в соответствии с ИСО/МЭК 17024 ЕН ИСО 9712 /ИСО 10015 - по ВИК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ихретоковы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и магнитный 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еррозонд)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Независимый орган по аттестации персонала НК –АНО «СЦНТО «Промбезопасность-Сибирь», аккредитован Свидетельство №НОАП-0028 от 26.12.2013г. по ВИК, рентгенографически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Ультразвуково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РЦ «Стройсертификация» Госстроя КР  аттестация персонала НК методом пластической деформ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5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4000" y="1413000"/>
          <a:ext cx="8496000" cy="5062320"/>
        </p:xfrm>
        <a:graphic>
          <a:graphicData uri="http://schemas.openxmlformats.org/drawingml/2006/table">
            <a:tbl>
              <a:tblPr/>
              <a:tblGrid>
                <a:gridCol w="1726920"/>
                <a:gridCol w="6769080"/>
              </a:tblGrid>
              <a:tr h="44028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одготовка специалистов  ООС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70280">
                <a:tc row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бучение  персонала НК по критериям аккреди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ение  специалистов лабораторий НК и органов контроля по международным стандартам аккредитации: ИСО/МЭК 17020, ИСО/МЭК 17025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ведущими оценщиками признанных на международном уровне органов по аккредитации: Турецкое агентство по аккредитации (ТУРКАК), Костариканский орган по аккредитации (ЕСО), эксперт РТ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65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е КЦА по политикам и процедурам аккредитации,  касающимися неразрушающего контроля с 2010 года на систематической основе  в соответствии с установленной программой (8 , 16 часовое обуче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азе Центра повышения квалификации и профессиональной переподготовки кадров при национальном органе стандартизации и метрологии по МС в области аккредитации  (ИСО/МЭК 17020, ИСО/МЭК 17025, включая политики процедуры аккредитации для лабораторий неразрушающего контроля и органов контроля) согласно 40- часовой программ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413000"/>
          <a:ext cx="8496000" cy="4938480"/>
        </p:xfrm>
        <a:graphic>
          <a:graphicData uri="http://schemas.openxmlformats.org/drawingml/2006/table">
            <a:tbl>
              <a:tblPr/>
              <a:tblGrid>
                <a:gridCol w="1726920"/>
                <a:gridCol w="6769080"/>
              </a:tblGrid>
              <a:tr h="44028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Стандартные образцы ООС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3000">
                <a:tc row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онтроль оборудования и результатов  Н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дартные образцы, полученные вместе с оборудованием для НК с определенным интервалом подтверждается их  приписанные метрологические характеристики (геометрические) в национальном органе по метрологии в соответствии с паспортами данным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9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ОС НК разрабатывают и изготавливают испытательные образцы-стандартные образцы предприятия с учетом методов и объектов НК в соответствии с утвержденными   в установленном порядке техническими заданиям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тельные образцы-стандартные образцы предприятия имеют соответствующие приписанные характеристики от национального органа по метрологии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ытательные образцы-стандартные образцы предприятия  используются для  проведения контроля качества НК внутри ООС (персонал, объекты контроля, разные единицы оборудования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413000"/>
          <a:ext cx="8496000" cy="504180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044680"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ответствии с Политикой КЦА-ПЛ 8 «Область применения ГОСТ ISO/IEC 17020, ГОСТ ИСО/МЭК 17025 и ГОСТ Р ИСО 15189 для аккредитации органов, проводящих инспекции, судебно-экспертных организаций и медицинских лабораторий» и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принципом по применению международных или гармонизированных с международными стандартами требований аккредитации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подтверждении технической компетентности лабораторий неразрушающего контроля  используется МС (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 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 ГОСТ ИСО/МЭК 17025-2009 «Общие требования к компетентности испытательных и калибровочных лабораторий», предусматривающий возможность разработки органом аккредитации руководств по его применению в специальных областях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подтверждении технической компетентности органов контроля включая поверочные лаборатории применяется МС (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 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) ГОСТ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0:2013 «Оценка соответствия. Требования к работе различных органов, проводящих инспекции» 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7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24000" y="1413000"/>
          <a:ext cx="8496000" cy="5346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346720"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AC-P15:06/2014 Руководство «Применение ISO/IEC 17020:2012 для аккредитации инспекционных органов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международных требованиях:  ГОСТ ИСО/МЭК 17025-2009 (п.5.6.1) ГОСТ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0:2013  (п. 6.2.1) установлено, что оборудование,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ользуемые для испытаний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включая неразрушающий контроль,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троля параметров окружающей среды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,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бора образцов,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также связанные с услугами по проведению инспекции ,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меющи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е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чительное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лияние на точность и достоверность результатов должны быть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алиброваны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еред вводом в эксплуатацию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ходя из этого, пригодность оборудования органов инспекции и лабораторий неразрушающего контроля,  которое не подлежат калибровке  может  быть  установлена  визуальным  осмотром, функциональными  проверками, т.е. поверкам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гласно Порядка предоставления и отзыва права на проведение испытаний средств измерений и (или) аттестации стандартных образцов с целью утверждения типа и (или) поверки средств измере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7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1413000"/>
          <a:ext cx="8496000" cy="5346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34672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Calibri"/>
                        </a:rPr>
                        <a:t>июль 2013 г. № 401 </a:t>
                      </a: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– ПП КР об уполномочива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                          </a:t>
                      </a: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на право поверки С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9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Право предоставляется сроком на 1 год  Министерством экономики КР (МЭ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9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Первоначально на базе оценке МЭ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9c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Calibri"/>
                        </a:rPr>
                        <a:t>П</a:t>
                      </a:r>
                      <a:r>
                        <a:rPr b="1" lang="ru-RU" sz="2000" spc="-1" strike="noStrike">
                          <a:solidFill>
                            <a:srgbClr val="0009c0"/>
                          </a:solidFill>
                          <a:latin typeface="Times New Roman"/>
                          <a:ea typeface="Times New Roman"/>
                        </a:rPr>
                        <a:t>родление только на базе аккредитации по ГОСТ ISO/IEC 17020-2013 и ILAC P15:06/2014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состоянию на 20.10.2015 г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национальном реестре  аккредитованных ООС  включены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 органа контроля по ГОСТ ISO/IEC 17020-2013 и ILAC P15:06/2014 в области энергетики, подъемных кран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 лаборатории неразрушающего контроля в области строительства и железнодорожного транспор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24000" y="1413000"/>
          <a:ext cx="8496000" cy="49813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04468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одятся работы по  подтверждению компетентности  ООС НК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5 ОК, включая неразрушающего контроля по ИСО/МЭК 17020  и 3 поверочные лаборатории, ранее  имеющие право на поверку С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 ОС по сертификации персонала по ИСО/МЭК 17024  в области неразрушающего контроля: вихретоковый, магнитопорошковый, радиографический, ультразвуковой,  визуальный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гласно ГОСТР 54795-2011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/DI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9712 «Контроль неразрушающий. Квалификация и сертификация персонала. Общие требования » (приказ ЦСМ при МЭ КР от 08.07.2014г. № 40-СТ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водится адаптация систем  менеджмента качества лабораторий неразрушающего контроля для перехода  на МС ИСО/МЭК 17020,  ранее аккредитованных   по МС ИСО/МЭК 1702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8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24000" y="1413000"/>
          <a:ext cx="8496000" cy="515448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506200">
                <a:tc>
                  <a:txBody>
                    <a:bodyPr lIns="90000" rIns="90000" tIns="82800" bIns="82800" anchor="ctr">
                      <a:noAutofit/>
                    </a:bodyPr>
                    <a:p>
                      <a:pPr marL="46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11.2013г. Кыргызстан в лице КЦА присоединился к многостороннему Соглашению о взаимном признании Международного сотрудничества по аккредитации лабораторий (ILAC) и получил статус полноправного члена ILAC в части аккредитации испытательных лабораторий по международному стандарту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 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5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:2005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ответственно, КЦА  и аккредитуемые и аккредитованные ООС, включая  должны выполнять требования ILAC помимо критериев, установленных в международных стандартах: ГОСТ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7020:2013, ГОСТ ИСО/МЭК 17025-2009,  включая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AC-Р9:06/2014 Политика ILAC в отношении участия в мероприятиях профессионального тестировани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AC P10: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5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Политика ILAC по прослеживаемости измерений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4680" algn="just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LAC-P13:10/2010 Применение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SO /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IEC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011 для аккредитации поставщиков профессионального тестирова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1382760"/>
          <a:ext cx="8496000" cy="540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400720">
                <a:tc>
                  <a:txBody>
                    <a:bodyPr lIns="90000" rIns="90000" tIns="82800" bIns="82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КР «Об основах технического регулирования в КР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 КР  «Об обеспечении единства измерени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ядок предоставления и отзыва права на проведение испытаний средств измерений и (или) аттестации стандартных образцов с целью утверждения типа и (или) поверки средств измерений юридическим лицам, утвержденный постановлением Правительства Кыргызской Республики  от 4 июля 2013 года № 401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национальной системе аккредитации в КР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Совете по аккредитации ООС - приняты постановлением Правительства КР от 16.11.2006 г. № 79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Кыргызском центре аккредитации -принято постановлением Правительства КР от 05.03.2010г.   № 128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ЦА определен национальным органом по аккредитации ООС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0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аконодательная база аккредитации ОО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KCA logo2"/>
          <p:cNvPicPr/>
          <p:nvPr/>
        </p:nvPicPr>
        <p:blipFill>
          <a:blip r:embed="rId9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07800" y="963720"/>
          <a:ext cx="8496360" cy="3824280"/>
        </p:xfrm>
        <a:graphic>
          <a:graphicData uri="http://schemas.openxmlformats.org/drawingml/2006/table">
            <a:tbl>
              <a:tblPr/>
              <a:tblGrid>
                <a:gridCol w="1727280"/>
                <a:gridCol w="6769080"/>
              </a:tblGrid>
              <a:tr h="44028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ЦА-ПЛ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Участие органов неразрушающего контроля в проверочных действиях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н План мероприятий по реализации Стратегических направлений развития и функционирования национальных программ проверки квалификации на качество испытаний в Кыргызской Республике (2009-2014 гг.), предусматривающий проведение МЛСИ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Под инициативой КЦА  организуются и проводятся  МЛСИ  (до 9 ООС участвуют в области  неразрушающего контроля) образцов сварного стыка трубы различными диаметрами/толщиной   (ВИК,  рентгенографически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, Ультразвуковой (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В процессе аккредитации  ООС по НК в обязательном порядке проводятся двух  сторонние  сличения с применением испытательных образцов, под наблюдением проведение НК разными лабораториями (персонал, оборудование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9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"/>
          <p:cNvGraphicFramePr/>
          <p:nvPr/>
        </p:nvGraphicFramePr>
        <p:xfrm>
          <a:off x="324000" y="4581360"/>
          <a:ext cx="8496000" cy="2113200"/>
        </p:xfrm>
        <a:graphic>
          <a:graphicData uri="http://schemas.openxmlformats.org/drawingml/2006/table">
            <a:tbl>
              <a:tblPr/>
              <a:tblGrid>
                <a:gridCol w="1726920"/>
                <a:gridCol w="6769080"/>
              </a:tblGrid>
              <a:tr h="439920">
                <a:tc grid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МЛС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720">
                <a:tc rowSpan="2"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нфор-мационное обеспечени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 специальный раздел на сайте КЦА  </a:t>
                      </a:r>
                      <a:r>
                        <a:rPr b="1" lang="en-US" sz="1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</a:rPr>
                        <a:t>www.kca.gov.k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вопросам МСИ для обеспечения доступности информации заинтересованным сторонам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1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y-KG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для поиска ООС, каким образом могут найти Координаторов МСИ по всему миру через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ptis.bam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H:\ТК Лаб\ТК по аккр до 2014года\Подкомитеты ТК ЛАБ\подкомитет ТК  Калибровка-Метрология\засед. подкомитет Метрология\подком калибровка  2009г\фото подкомитет\IMG_1794.jpg"/>
          <p:cNvPicPr/>
          <p:nvPr/>
        </p:nvPicPr>
        <p:blipFill>
          <a:blip r:embed="rId1"/>
          <a:stretch/>
        </p:blipFill>
        <p:spPr>
          <a:xfrm>
            <a:off x="476280" y="333360"/>
            <a:ext cx="2813040" cy="23050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H:\ТК Лаб\ТК по аккр до 2014года\Подкомитеты ТК ЛАБ\подкомитет ТК  Калибровка-Метрология\засед. подкомитет Метрология\подком калибровка  2009г\фото подкомитет\IMG_1822.jpg"/>
          <p:cNvPicPr/>
          <p:nvPr/>
        </p:nvPicPr>
        <p:blipFill>
          <a:blip r:embed="rId2"/>
          <a:stretch/>
        </p:blipFill>
        <p:spPr>
          <a:xfrm>
            <a:off x="3767040" y="333360"/>
            <a:ext cx="2746440" cy="2320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:\ТК Лаб\ТК по аккр до 2014года\заседания ТК ЛАБ\13 засед.ТК (13-3-12) И ПК Метрология (7-3-12)\Фото ТК и пк Метрология 7 от 14.08.12г\IMG_5814.JPG"/>
          <p:cNvPicPr/>
          <p:nvPr/>
        </p:nvPicPr>
        <p:blipFill>
          <a:blip r:embed="rId3"/>
          <a:stretch/>
        </p:blipFill>
        <p:spPr>
          <a:xfrm>
            <a:off x="674640" y="2924280"/>
            <a:ext cx="2384640" cy="25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H:\ТК Лаб\ТК по аккр до 2014года\заседания ТК ЛАБ\13 засед.ТК (13-3-12) И ПК Метрология (7-3-12)\Фото ТК и пк Метрология 7 от 14.08.12г\IMG_5847.JPG"/>
          <p:cNvPicPr/>
          <p:nvPr/>
        </p:nvPicPr>
        <p:blipFill>
          <a:blip r:embed="rId4"/>
          <a:stretch/>
        </p:blipFill>
        <p:spPr>
          <a:xfrm>
            <a:off x="6508800" y="3213000"/>
            <a:ext cx="2598840" cy="24591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H:\ТК Лаб\ТК по аккр до 2014года\заседания ТК ЛАБ\16-1-13 внеочер. зад. ТК и  10-1-13 ПК метрология\фото 16 заседания ТК и ПК Метрология\100_FUJI\DSCF0028.JPG"/>
          <p:cNvPicPr/>
          <p:nvPr/>
        </p:nvPicPr>
        <p:blipFill>
          <a:blip r:embed="rId5"/>
          <a:stretch/>
        </p:blipFill>
        <p:spPr>
          <a:xfrm>
            <a:off x="6700680" y="333360"/>
            <a:ext cx="2443320" cy="245916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3254400" y="3079800"/>
            <a:ext cx="3011400" cy="27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9c0"/>
                </a:solidFill>
                <a:latin typeface="Arial"/>
              </a:rPr>
              <a:t>Буд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9c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9c0"/>
                </a:solidFill>
                <a:latin typeface="Arial"/>
              </a:rPr>
              <a:t>наши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9c0"/>
                </a:solidFill>
                <a:latin typeface="Arial"/>
              </a:rPr>
              <a:t>обуч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:\ТК Лаб\ТК по аккр 2014год\заседания ТК ЛАБ 2014 год\23-3-14 .засед ТК ЛАБ и ПК Метрология (17-2-14)\фото 23-3-2014 заседания ТК\CIMG3617.JPG"/>
          <p:cNvPicPr/>
          <p:nvPr/>
        </p:nvPicPr>
        <p:blipFill>
          <a:blip r:embed="rId1"/>
          <a:stretch/>
        </p:blipFill>
        <p:spPr>
          <a:xfrm>
            <a:off x="3276720" y="189000"/>
            <a:ext cx="2519280" cy="2462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H:\ТК Лаб\ТК по аккр 2014год\заседания ТК ЛАБ 2014 год\23-3-14 .засед ТК ЛАБ и ПК Метрология (17-2-14)\фото 23-3-2014 заседания ТК\CIMG3637.JPG"/>
          <p:cNvPicPr/>
          <p:nvPr/>
        </p:nvPicPr>
        <p:blipFill>
          <a:blip r:embed="rId2"/>
          <a:stretch/>
        </p:blipFill>
        <p:spPr>
          <a:xfrm>
            <a:off x="250920" y="206280"/>
            <a:ext cx="2881080" cy="24447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" descr="H:\ТК Лаб\ТК по аккр 2014год\заседания ТК ЛАБ 2014 год\23-3-14 .засед ТК ЛАБ и ПК Метрология (17-2-14)\фото 23-3-2014 заседания ТК\CIMG3639.JPG"/>
          <p:cNvPicPr/>
          <p:nvPr/>
        </p:nvPicPr>
        <p:blipFill>
          <a:blip r:embed="rId3"/>
          <a:stretch/>
        </p:blipFill>
        <p:spPr>
          <a:xfrm>
            <a:off x="6140520" y="206280"/>
            <a:ext cx="2611440" cy="24447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6" descr="F:\обучение тех экспертов\обучение тэ и оценщиков 2014 год\обучение ноябрь 2014 г\фото с обучения\IMG_20141114_120530.jpg"/>
          <p:cNvPicPr/>
          <p:nvPr/>
        </p:nvPicPr>
        <p:blipFill>
          <a:blip r:embed="rId4"/>
          <a:stretch/>
        </p:blipFill>
        <p:spPr>
          <a:xfrm>
            <a:off x="250920" y="2997360"/>
            <a:ext cx="3529080" cy="3598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F:\обучение тех экспертов\обучение тэ и оценщиков 2014 год\обучение ноябрь 2014 г\фото с обучения\IMG_20141114_091035.jpg"/>
          <p:cNvPicPr/>
          <p:nvPr/>
        </p:nvPicPr>
        <p:blipFill>
          <a:blip r:embed="rId5"/>
          <a:stretch/>
        </p:blipFill>
        <p:spPr>
          <a:xfrm>
            <a:off x="3924360" y="3209760"/>
            <a:ext cx="2663640" cy="2846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F:\обучение тех экспертов\обучение тэ и оценщиков 2014 год\обучение апрель-май 2014 г\фото\CIMG3668.JPG"/>
          <p:cNvPicPr/>
          <p:nvPr/>
        </p:nvPicPr>
        <p:blipFill>
          <a:blip r:embed="rId6"/>
          <a:stretch/>
        </p:blipFill>
        <p:spPr>
          <a:xfrm>
            <a:off x="6732720" y="3209760"/>
            <a:ext cx="243504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F:\обучение тех экспертов\обучение тэ и оценщиков 2014 год\обучение ноябрь 2014 г\фото с обучения\IMG_20141114_124915.jpg"/>
          <p:cNvPicPr/>
          <p:nvPr/>
        </p:nvPicPr>
        <p:blipFill>
          <a:blip r:embed="rId1"/>
          <a:stretch/>
        </p:blipFill>
        <p:spPr>
          <a:xfrm>
            <a:off x="34920" y="171360"/>
            <a:ext cx="2665440" cy="26654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15920" y="3284640"/>
            <a:ext cx="3735360" cy="30146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"/>
          <p:cNvPicPr/>
          <p:nvPr/>
        </p:nvPicPr>
        <p:blipFill>
          <a:blip r:embed="rId3"/>
          <a:stretch/>
        </p:blipFill>
        <p:spPr>
          <a:xfrm>
            <a:off x="2843280" y="139680"/>
            <a:ext cx="3160800" cy="2766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"/>
          <p:cNvPicPr/>
          <p:nvPr/>
        </p:nvPicPr>
        <p:blipFill>
          <a:blip r:embed="rId4"/>
          <a:stretch/>
        </p:blipFill>
        <p:spPr>
          <a:xfrm>
            <a:off x="4859280" y="3284640"/>
            <a:ext cx="3816360" cy="30146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5"/>
          <a:stretch/>
        </p:blipFill>
        <p:spPr>
          <a:xfrm>
            <a:off x="6134040" y="139680"/>
            <a:ext cx="2987640" cy="276696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6"/>
          <p:cNvSpPr/>
          <p:nvPr/>
        </p:nvSpPr>
        <p:spPr>
          <a:xfrm>
            <a:off x="8755200" y="6373800"/>
            <a:ext cx="40932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4000" y="1413000"/>
          <a:ext cx="8496000" cy="540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400720">
                <a:tc>
                  <a:txBody>
                    <a:bodyPr lIns="90000" rIns="90000" tIns="82800" bIns="82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SzPct val="102884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Орган аккредитации, аккредитующие ООС должен отвечать требованиям ГОСТ ИСО/МЭК 17011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и развитие национальной системы аккредитации в соответствии с международной практикой и стандартами, также обеспечение единой государственной политики в области аккредитации ООС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в соответствии с международной практикой и стандартами официального признания технической компетентности ООС в целях создания условий для повышения доверия к ним и создания условий для признания их деятельност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SzPct val="102792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ение   официального признания   компетентности   Координаторов/ Провайдеров программ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рки на качество (ПТ)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и задачи КЦ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KCA logo2"/>
          <p:cNvPicPr/>
          <p:nvPr/>
        </p:nvPicPr>
        <p:blipFill>
          <a:blip r:embed="rId6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24000" y="1413000"/>
          <a:ext cx="8496000" cy="540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40072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ОЖЕНИЕ о национальной системе аккредитации в Кыргызской Республике  устанавливает, чт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3.2 Аккредитация органов по оценке соответствия осуществляется в соответствии с принципами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овольност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крытости и доступности правил аккредитаци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етентности и беспристрастности органа,     осуществляющего аккредитацию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ой системы и единства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вил  аккредитаци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допустимости ограничения конкуренции и создания препятствий для пользования услугами аккредитованных органов по оценке соответствия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я равных условий лицам, претендующим на получение аккредитаци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допустимости совмещения в одной организации функций по аккредитации и сертификаци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16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и задачи КЦ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324000" y="1413000"/>
          <a:ext cx="8496000" cy="5400720"/>
        </p:xfrm>
        <a:graphic>
          <a:graphicData uri="http://schemas.openxmlformats.org/drawingml/2006/table">
            <a:tbl>
              <a:tblPr/>
              <a:tblGrid>
                <a:gridCol w="8496000"/>
              </a:tblGrid>
              <a:tr h="5400720">
                <a:tc>
                  <a:txBody>
                    <a:bodyPr lIns="90000" rIns="90000" tIns="82800" bIns="82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разглашения полученной при аккредитации конфиденциальной информации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именения международных или гармонизированных с международными стандартами требований аккредитации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П. 4.4. ПОЛОЖЕНИЯ о национальной системе аккредитации в Кыргызской Республике  устанавливает, что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ъектами аккредитации  могут быть следующие  ООС: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ы по сертификации продукции (услуг)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ы по сертификации систем менеджмента  качества,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истем менеджмента окружающей средой и других систем;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ы по сертификации персонала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пытательные /медицинские/ поверочные /калибровочные лаборатории;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спектирующие орга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айдеры ППТ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21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Цели и задачи КЦ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8715240" y="6302520"/>
            <a:ext cx="371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3215160" y="295200"/>
            <a:ext cx="2797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Cambria"/>
              </a:rPr>
              <a:t>Структура К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443720" y="295200"/>
            <a:ext cx="1023840" cy="731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C:\Users\User\Pictures\Безымянный.jpg"/>
          <p:cNvPicPr/>
          <p:nvPr/>
        </p:nvPicPr>
        <p:blipFill>
          <a:blip r:embed="rId2"/>
          <a:stretch/>
        </p:blipFill>
        <p:spPr>
          <a:xfrm>
            <a:off x="328680" y="1027080"/>
            <a:ext cx="8572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12840" y="1581120"/>
          <a:ext cx="8496360" cy="5035680"/>
        </p:xfrm>
        <a:graphic>
          <a:graphicData uri="http://schemas.openxmlformats.org/drawingml/2006/table">
            <a:tbl>
              <a:tblPr/>
              <a:tblGrid>
                <a:gridCol w="8496360"/>
              </a:tblGrid>
              <a:tr h="5035680"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ботников КЦ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ивлеченных специалистов, в том числе: 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26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х оценщиков –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 из них 8 из КЦ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26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щиков –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, </a:t>
                      </a: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области НК-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indent="26352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х экспертов –  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,  </a:t>
                      </a:r>
                      <a:r>
                        <a:rPr b="1" lang="ru-RU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в области НК-</a:t>
                      </a:r>
                      <a:r>
                        <a:rPr b="1" lang="en-US" sz="3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30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ерсонал КЦ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0" y="963720"/>
            <a:ext cx="9144000" cy="1522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38040" y="1244520"/>
          <a:ext cx="8496360" cy="5651640"/>
        </p:xfrm>
        <a:graphic>
          <a:graphicData uri="http://schemas.openxmlformats.org/drawingml/2006/table">
            <a:tbl>
              <a:tblPr/>
              <a:tblGrid>
                <a:gridCol w="1535040"/>
                <a:gridCol w="6961320"/>
              </a:tblGrid>
              <a:tr h="565236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ребование к Органу аккредитаци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ИСО/МЭК 17011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олжен иметь комитет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ТК ОО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вляет собой установленную КЦА форму сотрудничества технических экспертов по конкретным направлениям деятельности ООС, осуществляемого на добровольной основе в целях проведения работ в области аккредитации ООС  и </a:t>
                      </a: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уется из представителей, заинтересованных в аккредитации ООС в специальных областях деятельности, по официальному представлению соответствующих министерств, ведомств, организаций. Членами ТК ООС могут быть специалисты, работающие в области оценки соответствия (измерений, испытаний, анализа, контроля и др.) по конкретным направлениям деятельности, являющиеся техническими экспертами в области аккредитации, внесенными в реестр привлекаемых оценщиков и ТЭ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Функция ТК О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огласование и принятие рекомендаций по применению международных документов по аккредитации, устанавливающих требования к ООС в специальных областях деятельности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установление требований по подбору специалистов в соответствующих областях деятельности ООС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35" name="Text Box 54"/>
          <p:cNvSpPr/>
          <p:nvPr/>
        </p:nvSpPr>
        <p:spPr>
          <a:xfrm>
            <a:off x="11916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1125360"/>
            <a:ext cx="9144000" cy="1429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878e91"/>
              </a:gs>
            </a:gsLst>
            <a:lin ang="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8000" y="1197000"/>
          <a:ext cx="8712000" cy="3300480"/>
        </p:xfrm>
        <a:graphic>
          <a:graphicData uri="http://schemas.openxmlformats.org/drawingml/2006/table">
            <a:tbl>
              <a:tblPr/>
              <a:tblGrid>
                <a:gridCol w="8712000"/>
              </a:tblGrid>
              <a:tr h="118440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08г.-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 ТК по аккредитации лабораторий (ТК ЛАБ ) с персональным составом, состоящим 14 специалистов лабораторий различных ведомств, включая 1-председатель, секретариат (Приказ КЦА № 81 от 29.09.2008г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116080">
                <a:tc>
                  <a:txBody>
                    <a:bodyPr lIns="90000" rIns="90000" tIns="82800" bIns="82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08г.-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 Подкомитет «Неразрушающий контроль» (ПК НК ТК ЛАБ), объединяющий 11  членов из представителей Госинспекции по экологической и технической безопасности при ПКР, Управления регулирования промышленной безопасности Государственного агентства по геологии и минеральным ресурсам при Правительстве КР., Государственного органа, ответственного за радиационной безопасности, государственных и частных лабораторий неразрушающего контроля  на паритетной основе (Приказ КЦА № 81 от 29.09.2008г.).  Назначено ответственное лицо от КЦА за ПК НК ТК ЛАБ (пр. № 91 от 21.05.14 г. с обновлением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140" name="Text Box 54"/>
          <p:cNvSpPr/>
          <p:nvPr/>
        </p:nvSpPr>
        <p:spPr>
          <a:xfrm>
            <a:off x="108000" y="206280"/>
            <a:ext cx="7343640" cy="4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Неразрушающий контро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6"/>
          <p:cNvSpPr/>
          <p:nvPr/>
        </p:nvSpPr>
        <p:spPr>
          <a:xfrm>
            <a:off x="8812080" y="6373800"/>
            <a:ext cx="295200" cy="4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4" descr="KCA logo2"/>
          <p:cNvPicPr/>
          <p:nvPr/>
        </p:nvPicPr>
        <p:blipFill>
          <a:blip r:embed="rId1"/>
          <a:stretch/>
        </p:blipFill>
        <p:spPr>
          <a:xfrm>
            <a:off x="7548480" y="193680"/>
            <a:ext cx="100800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3" name=""/>
          <p:cNvGraphicFramePr/>
          <p:nvPr/>
        </p:nvGraphicFramePr>
        <p:xfrm>
          <a:off x="111240" y="4508640"/>
          <a:ext cx="8708760" cy="2273040"/>
        </p:xfrm>
        <a:graphic>
          <a:graphicData uri="http://schemas.openxmlformats.org/drawingml/2006/table">
            <a:tbl>
              <a:tblPr/>
              <a:tblGrid>
                <a:gridCol w="8708760"/>
              </a:tblGrid>
              <a:tr h="2273040">
                <a:tc>
                  <a:txBody>
                    <a:bodyPr lIns="90000" rIns="90000" tIns="82800" bIns="82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015г.-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 ТК по аккредитации органов контроля (ТК ОК ) с персональным составом, состоящим 10 специалистов органов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ого управления и контроля различных ведомств (Приказ КЦА № 36 от 12.03.2015.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ленами ТК ОК  являются представители  Государственного   агентства автомобильного и водного транспорта Министерства транспорта и коммуникаций КР,  Министерства экономики КР, Дорожно – патрульной службы  Министерства внутренних дел  КР, и др. органов государственного управления, также государственных и частных органов контроля  на паритетной основе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5:15:36Z</dcterms:created>
  <dc:creator>User</dc:creator>
  <dc:description/>
  <dc:language>en-US</dc:language>
  <cp:lastModifiedBy>ОАЛ</cp:lastModifiedBy>
  <cp:lastPrinted>2013-11-18T11:35:23Z</cp:lastPrinted>
  <dcterms:modified xsi:type="dcterms:W3CDTF">2015-10-28T08:40:58Z</dcterms:modified>
  <cp:revision>388</cp:revision>
  <dc:subject/>
  <dc:title>Слайд 1</dc:title>
</cp:coreProperties>
</file>